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E78-5F9D-4E7C-B8D1-303E418F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974-690F-4BE3-8600-E92C2B8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E83-A2D7-4A92-AE65-EC34F266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587-CE8E-481A-AEEC-08918D04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8BDB-80CA-463A-9FF1-4D76C7F1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EB84-1FF3-4ADE-8140-768D2157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793B-57E5-467A-B16A-A90A15C0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A9EC-5F56-4D3A-88AC-4819C82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6FDF-82ED-4379-B6DF-259B9A3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C62F-17BA-4EBF-B94B-3D3D921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8093-4E8B-42D4-8E98-93043ECB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FA3-D6FB-41A3-8389-32CEA5D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26D8-32E4-4544-925D-A7D70F7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152D-99E6-4469-8023-AAE936E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EA0-1F82-417F-8081-1E5BA27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40CE-442F-433E-98CE-3C888D68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7C46-5A75-492A-B147-B58C99C0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858-5AE5-4222-8186-94AA653F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C85-6F94-4465-A133-546F5261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CA1-44EE-4704-94CE-23A09AD2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88A-6DFD-4E58-ABE1-D6DD2A86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51A-B71C-4D10-B22F-A542AB3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B64-0609-4A36-BCC3-2C2A97B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21F-2BCB-45A5-A77D-B493BADF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A481-E171-421F-893C-CD46146FC8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F507-628B-42E8-BB14-7D382B88A8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de.ct.gov/sde/cwp/view.asp?a=2678&amp;Q=320730" TargetMode="External"/><Relationship Id="rId2" Type="http://schemas.openxmlformats.org/officeDocument/2006/relationships/hyperlink" Target="http://idea.ed.gov/explore/view/p/%2Croot%2Cdynamic%2CTopicalArea%2C1%2C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the IEP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 803 Pres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d by Erik By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de.ct.gov/sde/cwp/view.asp?a=2678&amp;Q=3207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idea.ed.gov/explore/view/p/%2Croot%2Cdynamic%2CTopicalArea%2C1%2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9824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and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modations – changes the “how” of what is taught.  A change is made to the teaching or testing procedures to provide a student with access to information and to create an equal opportunity to demonstrate knowledge and skill.  Does not change the instructional level, content or criteria for meeting a stand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he “what” we te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dification is a change in what a student is expected to learn and/or demonstra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a student may be working on modified course content, the subject area remains the same as the rest of the clas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s special education, related services and regular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related services: assistive technology, audiology, counseling, physical, occupational or speech/language therapy, school nurse, psychological or social worker services, transpor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: Planning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for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91200" y="1461600"/>
            <a:ext cx="5154840" cy="5117760"/>
            <a:chOff x="2491200" y="1461600"/>
            <a:chExt cx="5154840" cy="5117760"/>
          </a:xfrm>
        </p:grpSpPr>
        <p:sp>
          <p:nvSpPr>
            <p:cNvPr id="126" name="_s23557"/>
            <p:cNvSpPr/>
            <p:nvPr/>
          </p:nvSpPr>
          <p:spPr>
            <a:xfrm>
              <a:off x="3163680" y="2165760"/>
              <a:ext cx="3810240" cy="37098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3558"/>
            <p:cNvSpPr/>
            <p:nvPr/>
          </p:nvSpPr>
          <p:spPr>
            <a:xfrm rot="7200000">
              <a:off x="3213720" y="211536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3559"/>
            <p:cNvSpPr/>
            <p:nvPr/>
          </p:nvSpPr>
          <p:spPr>
            <a:xfrm rot="14400000">
              <a:off x="3213720" y="2115000"/>
              <a:ext cx="3709800" cy="38102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66ff">
                <a:alpha val="50000"/>
              </a:srgbClr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3560"/>
            <p:cNvSpPr/>
            <p:nvPr/>
          </p:nvSpPr>
          <p:spPr>
            <a:xfrm>
              <a:off x="3111480" y="26823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1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Evalua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3561"/>
            <p:cNvSpPr/>
            <p:nvPr/>
          </p:nvSpPr>
          <p:spPr>
            <a:xfrm>
              <a:off x="5862600" y="26805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Develop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IE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62"/>
            <p:cNvSpPr/>
            <p:nvPr/>
          </p:nvSpPr>
          <p:spPr>
            <a:xfrm>
              <a:off x="4487760" y="5000760"/>
              <a:ext cx="11620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Place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2600" y="229536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before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ly determined, based on I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onsideration must be general education with supplemental services and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in the “least restrictive environment” (L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RE: “to the maximum extent appropriate children with disabilities are educated with children who are not disabled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and Amendments to the I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to an IEP can be made without a team meeting if the parents and district agree and develop a written document to amend or modify the current I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can be amended rather than redrafting the entire document – unless the parent requests a copy of the revised IEP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533520"/>
            <a:ext cx="4800600" cy="457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905120"/>
            <a:ext cx="4800600" cy="495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85800"/>
            <a:ext cx="4419720" cy="4343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a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6084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Roles and responsi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t the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81080"/>
            <a:ext cx="15242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visions &amp;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sk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143000"/>
            <a:ext cx="16002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tend &amp; Participate – when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lf-adv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981080"/>
            <a:ext cx="1676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h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unicate to resolv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cknowledg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657600"/>
            <a:ext cx="17524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bserv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view/monitor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181480"/>
            <a:ext cx="358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mi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llow procedural safegu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liv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Collaborative Approach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o is responsibl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incipal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completed within 30 school days of a student's placement in a special education progra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s IEPs within 30 school days of a student's placement in the progra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that IEPs are implemented and that, as part of implementation, the student's learning expectations are evaluated and updated at least once every reporting period;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lassroom Teacher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es first-hand knowledge of the student's strengths, needs, and interest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fills the role of the key curriculum expert on how the IEP can be developed to help the student progress through the Ontario curriculum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required to meet the student's needs, plans instruction to address those expectations, and assesses the student's achievement of the expect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d later implements teaching, and assessing, individualized teaching strategies that will help the student achieve his or her learning expectation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s and updates learning expectations at the beginning of each reporting period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s ongoing communication with the student's parents, other teachers, and other professionals and support staff involved with the student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7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ized Education Program (IE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written plan that describes in detail the child’s special education and related services the district will provide to meet the student’s individualized needs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a legal docu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developed by the Planning and Plac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P is reviewed at least ann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ents have a right to receive a copy of the IEP within five school days after the PPT is he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pecial Education Teac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diagnostic assessments, as appropriate and if required, to determine the student's learning strengths and need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s any modified or alternative learning expectations that fall within areas for which the special education teacher has direct responsibility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he classroom teacher(s) to maintain ongoing communication with the student's parents and other teachers.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Educational Assistant…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the student with learning activities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sts with providing appropriate accommodations as described in the IEP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s and records the student's achievements and progress relative to the expectations described in the IEP, under the direction and supervision of the teacher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 18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udent…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the team identify his or her preferred learning styles and modalitie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sts in setting annual program goals and learning expectation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 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arent………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-to-date information about their child as it relates to the child's learning (e.g., recent assessment report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important information that will assist in the development and implementation of their child's educational program (e.g., the talents and skills their child demonstrates in the home and community; their child's likes, dislikes, learning styles, interests, and reactions to various situations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ation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age 19- IEP Doc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&amp; On-going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P is linked to the report 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ho are on “modified” programs will require a statement identifying the grade level from the curriculum they are being assessed in and the IEP box on the report card must be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on “accommodated” only programs  DO NOT have the IEP box checked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ge 46 – IEP documen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nning and Placement Te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must receive written notice of the meeting 5 days prior to the Planning and Placement Team (P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ing must be scheduled at a mutually agreed on time and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meeting is scheduled at a time that is not convenient, the parent can request the district to reschedule or participate through an alternative method such as a conference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 can bring anyone they choose to the mee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bility Categories for Eligibility for Special Edu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al delay (3-5 year ol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ectual disability (mental retard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14240" y="2363760"/>
            <a:ext cx="6692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ist of Planning and Placement Team recommendations must be recor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requirement for meeting minu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14600" y="236376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 written noti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detail the decisions made regarding eligibility, evaluation, IEP or placemen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cord actions proposed or refused;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provided at least 5 days before the decisions are put into pl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ducation, related services and other supports must allow for a chil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 toward annual goal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ess in the general education curriculu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te in extra-curricular and non-academic activities;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educated and participate with children who do not have disabi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level of academic achievement and functiona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area of strength and need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s the impact of the disability on participation in the general education curricul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P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2600" y="23637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able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late to identified areas of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clear and measur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note how progress will be measured and re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3:25:32Z</dcterms:created>
  <dc:creator>Erik</dc:creator>
  <dc:description/>
  <dc:language>en-US</dc:language>
  <cp:lastModifiedBy>Erik</cp:lastModifiedBy>
  <dcterms:modified xsi:type="dcterms:W3CDTF">2009-04-24T03:52:46Z</dcterms:modified>
  <cp:revision>3</cp:revision>
  <dc:subject/>
  <dc:title> Understanding the IEP Process</dc:title>
</cp:coreProperties>
</file>